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2B61-A78D-406B-B609-04690E63F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C879-23E6-4F9D-90E0-EB9C87C3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6773-DB43-408D-AD1A-6A22680D0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166B-5BF6-4643-96DF-13E154671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C9C8-FB32-432E-8EAB-F1AEF3A6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FD5D-52F6-4E62-BF69-4EBC4C1A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56F0-5951-4269-9579-552C4BE0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23FA-00F4-4D14-80D2-CEF694BC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90F7-7CEC-4185-8778-9E8FB775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A1DA-C0BD-4517-A7F4-22D5ADC4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7C59-5527-4A11-966F-D90BB04A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B885-852E-4B72-9582-9F815B07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42A3-9F60-4D99-A521-113985850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Медицин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заснована на доказима 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– 10. недељ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965960" y="3021840"/>
            <a:ext cx="520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ВАЛИДНОСТ И ЗНАЧАЈ ДОКАЗ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О НЕЖЕЉЕНИМ ДЕЈСТВИ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у докази о нежељеним дејствима валидн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у групе болесника у студији биле у свему сличн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изузев у изложености новом лек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у ефекти и нежељена дејства регистровани на исти начин у обе груп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у пацијенти праћени комплетно и довољно дуг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у докази о нежељеним дејствима валидн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Да ли резултати задовољавај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неке дијагностичке тестове за узрочнос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Да ли је јасно да је излагање леку претходило појави нежељеног дејств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Да ли постоји веза између дозе и ефект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Постоје ли подаци који говоре о повлачењу нежељеног ефекта после прекида примене лека или о поновној појави нежељеног ефекта после поновне примене лек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Да ли је асоцијација лека и нежељеног ефекта конзистентна од студије до студиј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Да ли постоји биолошко објашњење асоцијациј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у резултати студије о нежељеним дејствима клинички значај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Потребно је израчунати релативно и апсолутно повећање ризика код клиничких студије или кохортних студ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Значајно релативно повећање ризика је 3 пута или виш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д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ејс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нтрол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тудија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реба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рачунати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ds rati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начајан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ds rati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ише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снову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псолутног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већања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изика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рачунати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Needed to Harm (100/APR)    *APR=апсолутно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већање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из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Како израчунати релативни ризик и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dds rati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5"/>
          <p:cNvGraphicFramePr/>
          <p:nvPr/>
        </p:nvGraphicFramePr>
        <p:xfrm>
          <a:off x="428760" y="2071800"/>
          <a:ext cx="8275680" cy="300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071800"/>
                    <a:ext cx="827568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21:18:48Z</dcterms:created>
  <dc:creator>Slobodan Jankovic</dc:creator>
  <dc:description/>
  <dc:language>en-US</dc:language>
  <cp:lastModifiedBy>Slobodan Jankovic</cp:lastModifiedBy>
  <dcterms:modified xsi:type="dcterms:W3CDTF">2014-07-12T17:29:09Z</dcterms:modified>
  <cp:revision>58</cp:revision>
  <dc:subject/>
  <dc:title>Slide 1</dc:title>
</cp:coreProperties>
</file>